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5A8-17C3-4004-BAEA-340FD17A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8E3-C307-4966-A45B-28CE8B00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FCCCA-A056-49C6-AD85-A62D7480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1CAC8-1F7B-4C7D-9CD4-9F874D01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C5550-8B54-4514-BC95-6E2D9CAD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58765-E8F2-4EB4-937B-5E8825B1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5BA80-EB01-4AEF-94F6-ED1C669C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1B477-C7CC-4BD4-9ED4-45C51B32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4CBF3-156A-48BE-8515-A35D3BB7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3E406-11F4-4B96-B143-7D89A729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770C0-5359-41AC-8F62-6F8A3510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97453-CACE-4FD7-85EF-C1074831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3929-4E31-489A-ABA7-1406C54F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6F4F5-DF5C-4DEB-A2C8-8F56542A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59CF3-10AD-4401-82BF-54DEB1DD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59214-AEE2-4535-A5E7-D1CE3F22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254F0-A99A-47FB-AE77-79DEE855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56B8A-C3ED-4D03-BC15-4D72AC41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16D34-6100-4EAC-95D0-A56443BD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D8A04-45AA-4755-B7EB-67E246BD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4C115-8262-4C0A-BBCB-0B4EC326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7A443-E19B-4D94-9625-7D878EEE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4A50C-6899-406E-BB75-3398F5EE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82CE-50C4-4E01-8249-516A25D4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B04CA-44E8-49A4-B70E-B77F067D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5288E-3824-4E29-9FCE-11FE2CA9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56168-2566-4699-9509-2D2A7DC4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5E847-A03F-4BAB-A76A-396ACFF6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AC874-DB94-4C91-84F5-8417CAD5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33A80-85FF-485D-B7D6-838DA0B4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52140-1E97-4DE6-A3A1-0DDF3C33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B5ABF-60AE-424E-A47B-8AEFB60C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0163E-27FC-4FC0-811C-7A5D12D5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4E44B-6E30-4917-8B86-357C223D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2A9C-8073-43C8-98A6-6FD7B572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4BF83-20CD-4C29-BD39-E8EB145C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12885-6D7A-436A-BFC3-9E424612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E180D-C7AC-410A-AABB-5140D1E0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AD4BF-0613-41CF-B313-50F37BF0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3EA72-1EFC-4F1C-B295-EE0051A0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9A3B2-740A-40FF-82D1-C8EE0CD3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CC918-7EFD-47A0-B646-C976BFC5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DF669-25A4-43DE-B8F9-86AA03FE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98AE8-3C2A-4601-9623-59042711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BD67E-7EBA-4D65-921D-52DD3B84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C4F4-1554-44D9-8B11-0F5FE3BB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906D3-C008-406A-AC92-61AEF241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61690-B219-4465-A755-05F62115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DFF28-FDC7-4911-9C62-685A3410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843D8-1921-468B-AF30-55DE902B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C9361-9016-4E5C-BB3B-B6492571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87E2-2EB3-479B-B8EB-4FB1299A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2FF7-C866-4B4F-BAD6-7F261F7E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0C11-5965-48DD-A57C-3EE58FAB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12B7-3574-4D1E-81AB-D6FED1BC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AEBF-DAE8-4501-9BD0-6D42A945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6E7-AAAC-42B9-8109-5F34C4C1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4F8D-6720-4FBD-8211-6CA06A23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4A62-0B1B-4679-9E46-A029AAA8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17D6-18DA-4E56-B686-79F384AA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1143-3110-4EFA-957A-50303D2C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9A46-9F1B-4414-B42F-57AB57CD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2D4C5-B15B-4244-8B7F-86D79214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4C114-AB13-49DE-9808-509070A8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7E625-6D73-49D7-B0DB-236F461F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CE962-6597-4E84-A0DE-BC2D03C4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27D0A-4590-4780-8485-8BD79C8C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A3B-A452-470A-B424-B300943A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8EE1A-3718-41F0-9F7E-20ACD655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B076-35AD-4F85-A02A-BBBD6B7A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9502E-3501-4FCB-AFAC-B1D49CD9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93F43-B9B6-4D34-AB0F-242465E2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C44DB-26E0-4F98-ADE3-8AF28C81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28CDC-C194-4716-88A1-A68D006F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1FA7-9E6C-4C8C-9CC4-0651F54D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2E9C6-57FF-4DCB-A37F-3AE8DEBA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0ED43-7DF0-4BED-B85C-60755D70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51AD0-3F1C-441C-8456-2AB5F9F3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5E0-6800-44D2-A7C5-2E0A623E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08A8D-9B84-49F0-9020-457B66AB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13DC1-1288-4A02-9460-55156CF9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77ACA-C2A4-4198-B438-D082FE61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5E622-AF12-4E84-9E9D-5E5D8F73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65F1E-98B5-41C3-81FD-A2AF1387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619FA-A5D0-45B7-B781-11F4399C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E41A4-7870-4F23-8F28-9727820A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9D9E2-7813-41F0-8B11-C28018FE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EAE64-6ACD-4049-83AF-1CD23B92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CF14D-D976-433D-80D2-D2CE7DE2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B48-444F-4D31-B3C3-60B9D75F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8B3EB-AA90-490A-BE43-683AA85E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982B0-F013-4791-8DB3-3E0C5F7F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E3E68-D2DB-4961-A867-3FF2227B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A1BE8-DC01-43C4-BA21-68C5A647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08AC0-79AD-4ED6-8582-8A4D5C50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83490-CD2D-4AB2-ADA6-5459A0BE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AA77B-C3AB-4492-A6F0-B6956E06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0DE1C-F5D7-4DAE-A400-F6EAB216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57360-F921-4C1D-8615-0FCFBD70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99511-51B4-4905-8C74-07277BA4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90C-765D-4882-96BF-A3934269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049AE-6A91-47EE-9391-6DADB472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6ACB0A-CB15-4B8F-9E5A-D8E6E1AF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D761D3-66DD-4654-9CAA-5898F37A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0FB284-130E-40AF-A2AD-3087434A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BBA9C-86E0-4C45-BFC2-7FF03D88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44488-8C36-4F4A-87F0-5387EA5D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430936-A2FD-4AC5-BAA3-DC4DF40B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878F83-4A1D-4A8C-82F2-D586947E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2E8B3E-B5D1-4E3F-B51D-3484239F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669689-D8AD-4FC7-A618-3351E671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F4B-0A24-45A1-8138-B67CA041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921FA5-CB08-42AE-A96B-4D174880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8AFB7B-7FD9-49DB-832B-B2D8C80D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65648-17D1-4759-B1E2-FF1ED93D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CF9B4-1C7E-44D3-A87A-7FC6B590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AEF80-FCF6-4AA3-B467-0513D3E8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E0403-C9E9-4ADD-9F19-1BB3F3C8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36B77-C2FE-44F0-9DB3-61FF70E9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99702-7EBE-486D-A993-1DC42714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761A1-A018-49A2-9F5F-B929790F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E83FB-5FE5-485D-A6A7-72434BF6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973-9AB7-437A-BF5F-B50F17F9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61499-47D6-4F6D-AC51-F119BA8A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72C77-C43A-4B5D-81F0-CFA7CE16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64A5C-F64E-4611-8AAE-B9FCB454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91A73-3BC3-498A-B92A-1B2019DF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5094D-50A4-4AD8-8B26-5B8D79E0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FF6A6-050B-4037-A24D-C7E47126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F89BD-18C8-481B-8D57-2E4B048C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A7468-F823-4DC8-97AC-E55C2DDE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C12D4-A903-43F7-991C-0DAB8D1C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10F47-5AB7-4B45-BECF-003243CC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234-7887-4727-A463-86344515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56736-8DEC-49D3-AEFB-571C83A6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0A38C-1ABB-4610-B8D5-5944BEB6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15B62-78D5-430E-952C-FE3D6B32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E8D5D-F495-4D65-A66F-6F040548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12539-DD19-472C-A7C7-9119804C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D90DF-5283-4188-AD48-E2EC3068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C9115-2804-4DF4-8F2C-28054947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E27A6-388C-46F5-A26A-165924D6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176E1-114C-44C7-94F2-995F0A32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28D76-5183-45F0-B507-AA932635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2F7C-FC0E-4AF0-8461-9641E4718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4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4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6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dt" idx="28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ftr" idx="29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1B5D-CF85-4FB0-93A6-E78EBBF045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4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5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9C9A-48D4-487F-807D-B0ED86110E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9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B08F-3BFA-40E0-9928-0513C50D4C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BB57-6197-459A-A051-62CBA3B94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1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4793-12AA-49B2-87BC-345514BA7D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8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FBE0-6157-40F4-8F9E-A497F6BBEC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BDEA-E3E7-4DF7-B85F-F7FBA688C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BAD8-925E-4EF8-B31A-D559A451A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4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6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6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8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2A46-E001-4207-88FB-D5F7859798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4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4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5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6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6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8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6555-EBE3-4EB9-830D-95C4D5F709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36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38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3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2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dt" idx="2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ftr" idx="2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5CF3-5226-4DF1-9D26-52C8CA21AD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otechnolog.ru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10288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Сочетает ли в себе грибная клетка растительные и животные черты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а ученица 10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негова Ел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вить, сочетает ли в себе грибная клетка растительные и животные эле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Изучить особенности грибной кле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Выявить черты сходства с растительной и грибной клет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Выявить черты различ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Составить сравнительную таблиц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Выв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собенности грибной клет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рибы — царство живых организмов, которые сочетают в себе признаки растений и животных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троение грибов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Вегетативное тело подавляющего большинства видов грибов — это </a:t>
            </a: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мицелий,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или </a:t>
            </a: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грибница,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состоящая из тонких бесцветных (иногда слегка окрашенных) нитей, или гиф, с неограниченным ростом и боковым ветвлением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итание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По способу питания различают две основные группы грибов: сапротрофы и симбионты. Для последних характерны паразитизм и мутуализм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4"/>
          <a:stretch/>
        </p:blipFill>
        <p:spPr>
          <a:xfrm>
            <a:off x="5940360" y="5229360"/>
            <a:ext cx="287964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ерты сходства с растительной и животной клетк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С растениями их сближает: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1) наличие хорошо выраженной клеточной стенки; 2) неподвижность в вегетативном состоянии; 3) размножение спорами; 4) способность к синтезу витаминов; 5) поглощение пищи путем всасывания (адсорбции)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Общим с животными является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) гетеротрофность; 2) наличие в составе клеточной стенки хитина, характерного для наружного скелета членистоногих; 3) отсутствие в клетках хлоропластов и фотосинтезирующих пигментов; 4) накопление гликогена как запасного вещества; 5) образование и выделение продукта метаболизма — мочевины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рты различ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обенности строения и жизнедеятельности грибов позволяют считать их одной их самых древних групп эукариотных организмов, не имеющих прямой эволюционной связи с растениями, как считалось ранее. Грибы и растения возникли независимо от разных форм микроорганизмов, обитавших в вод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18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42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Сравнительная характеристика эукариотических клеток организмов различных царств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7" name="Заголовок 1"/>
          <p:cNvSpPr/>
          <p:nvPr/>
        </p:nvSpPr>
        <p:spPr>
          <a:xfrm>
            <a:off x="609480" y="1890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539640" y="1125360"/>
          <a:ext cx="8280360" cy="5408640"/>
        </p:xfrm>
        <a:graphic>
          <a:graphicData uri="http://schemas.openxmlformats.org/drawingml/2006/table">
            <a:tbl>
              <a:tblPr/>
              <a:tblGrid>
                <a:gridCol w="2035440"/>
                <a:gridCol w="2036520"/>
                <a:gridCol w="2036880"/>
                <a:gridCol w="2171520"/>
              </a:tblGrid>
              <a:tr h="414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нак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1872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</a:t>
                      </a: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етка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950f9f"/>
                          </a:solidFill>
                          <a:latin typeface="Arial"/>
                        </a:rPr>
                        <a:t>Грибов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950f9f"/>
                          </a:solidFill>
                          <a:latin typeface="Arial"/>
                        </a:rPr>
                        <a:t>Растений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950f9f"/>
                          </a:solidFill>
                          <a:latin typeface="Arial"/>
                        </a:rPr>
                        <a:t>Животных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очная стенка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основном их хитина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целлюлозы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пная вакуол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опласты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 питания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теротрофный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трофный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теротрофный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оли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вают редко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у некоторых мхов и папоротников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ервный питательный углевод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икоген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хмал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икоген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следовав данный вопрос, я пришла к выводу, что грибная клетка сочетает в себе растительные и животные чер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писок используемой литерату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molbiol.ru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biotechnolog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www.krugosvet.r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7:26:21Z</dcterms:created>
  <dc:creator>07107</dc:creator>
  <dc:description/>
  <dc:language>en-US</dc:language>
  <cp:lastModifiedBy>07107</cp:lastModifiedBy>
  <dcterms:modified xsi:type="dcterms:W3CDTF">2009-11-09T08:01:45Z</dcterms:modified>
  <cp:revision>4</cp:revision>
  <dc:subject/>
  <dc:title>Царство Грибы</dc:title>
</cp:coreProperties>
</file>